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8E0-C1C0-4775-8450-E52C7BBB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844-D775-4518-9BDF-90E446AB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FB351-CEBD-4B1A-8D52-470B0983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C04FB-5726-448A-9D88-30AF17E9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85ABF-2E3D-47D9-9A75-21A03616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6C15E-4659-4CEF-8C59-5F2AE7DF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E2003-1195-458E-BBAA-4D607C47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3A2D0-6468-4BF6-BBE9-02DE03A3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836D0-A509-470A-B258-C0CF3FF3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7B2C1-CA27-44AF-BAA5-5E18379A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0CEB0-7804-4D92-A7FA-5B758BE9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F6633-64E1-47CB-B88F-E747A10B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D6A-68DB-41FB-881F-56BE5754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359BD-BFBC-4426-ACDB-BEDF9CA7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DF7AC-A539-49B1-B0EE-8C24F072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43C16-2194-44BE-BCE6-0E61363C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2F987-EA11-4E6C-843F-BED8839A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F269A-BDB2-4530-B95C-5D7614C4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45279-0389-4A4F-AC6E-07728725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38E71-34C4-4D27-AB21-8CC92758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6CF89-40E0-4AD5-A9F9-0E9B0571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D819E-4010-4996-ADEA-BE2F1C36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84498-CF90-407A-B00C-198AF451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96E-D934-44E3-A4FF-2D9D18B1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1B9B2-DE95-463E-A200-2DFDBC95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7AE6-5C71-41B5-B4E7-F9396090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833D-62DF-496B-99A0-DEDFBEAF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94D1-C8DC-4133-9026-06820A14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7871-1CAD-496D-8B58-9DE98F39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D632-0071-417E-A879-AE6EB621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013B-966A-406F-8CB7-61C66BBC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041C-21B0-4F0F-9CA3-4F591AF7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214-33A6-4CD7-92A4-021A1E6A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88D6-1EE1-4AAE-812A-919A8977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20E4-BC6B-43BD-9D5B-2F537B0C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AEF1-55F6-4CD6-BB70-C8BA7C59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58C1-2F49-4377-85D9-CE3AC3A7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F0B7-7997-4A85-A7CC-9C44E38B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A09A-D125-42FA-B3F8-1A5BB50B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5AA5-CEA4-4DBA-B45D-10C2CE24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A7125-3CE2-42CB-A80F-90E730FE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D0B00-70F4-4E30-ABDF-8528BA90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33969-7584-4CAF-AA3F-B5E15419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4F5-5286-4CCC-A063-D647C679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F5646-8D92-4D23-84FA-D9270C7F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85764-0723-4548-863E-8B1F6C61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D1E9-2D3A-4F70-B435-6E10AB9B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E1513-5409-44D5-AD3F-E83E724A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AD916-0CEA-4196-AACD-CAB22ED3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26257-6E0D-4AA4-AEF5-F388C928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7F8F-CE0A-4EFB-9696-A5AB84A6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4E66D-FA9F-4DCE-88FA-FCA9F138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28752-A527-46C3-B510-AD9BC27B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A91FD-2A17-4B64-8E58-5C6372F0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044F-DAF6-4FC9-BD88-4357AA79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6B0EF-20C8-439C-AE09-29229F63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6B8BF-6978-4615-BE40-8BC3430E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1F2E1-1C9C-4756-9709-1F8F97FA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8D7F6-8025-4901-915B-B1245380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E3947-899C-41C5-AC1F-4717DF5A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09951-2EF5-4527-BE62-704D3A2A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347C4-D19C-4422-AD47-1828A7C5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07F18-A919-41FC-A07E-D23BA530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83B92-BC78-4D9D-86A9-DF1D5FA5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1BB49-E4B6-469E-AFF8-F5706564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84B-2421-456B-A538-418EC060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ECA59-29E0-46BE-90E6-CB65E5EB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E6A4D-1E7E-41BA-A206-3FA322BD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8D413-75BF-4B2F-A996-2F2953AD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914C6-DADD-4687-953C-D5DD6D5E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BF24B-D730-4321-8592-0A784B2B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7A02A-D279-40A5-B36A-3BCBFB33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6C2B3-9D70-46C4-AADF-B9F3D169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5150C-F83E-4DD4-AB02-FB8090DE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54694-6574-4854-BC61-13E9E85C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9C0B5-53C7-4E25-A72C-87351DE8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622-CAAA-4EA2-A2F0-4E3274CB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B996C-188D-4CD1-8278-9027B10A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3BA46-6660-40E3-BE9A-1A3F5606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980B4-F5E8-43BB-834E-2FF1D301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8918F-6E9E-4151-8BAE-EE309D51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E9F6F-7085-47E8-8148-665DCC64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98FD4-09B3-4610-981A-38374E43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DB798-4CA1-42B2-A2E4-5808ECB7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EBA7E-43C3-4DFD-9D8B-643C92BF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DA422-1D8F-4388-8E39-E89F499C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5CD2F-A6B5-44B2-9AB4-89E4562D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D03-35C1-4C91-A797-72A32B5A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89784-2368-4270-B08C-92B25DFB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48EF2-87FF-4291-B338-45BCF6C8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5E4B9-851D-4FCC-9E5D-CB0AB55B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1D884-7ED2-49D3-A6E9-5EE9775A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5ECF2-1C17-43CE-BCC6-3A882A88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33D6B-1EB1-4803-8D1B-649B7EA0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AEA0A-8719-43B2-8F42-FB845F6B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4262D-13B1-4590-B4F5-4747C905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CD5D9-4F4B-4D8D-93A9-05CE71A0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0F75C-8433-4A84-BBA2-71692E4F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990-9F7A-4F9F-AEF5-97DEB17C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19375-81D9-45AC-AC1C-E47190B6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5BD70-066F-4BA8-85F5-49D6FD4E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8DE5E-B0FA-4844-ABD4-D12FDBBA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C63FA-862C-4B7D-B688-3A55640F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3878D-EF14-4A98-82FC-47AB68E2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CFAA8-40FD-4DDE-9044-5C6C45A0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F5093-2B79-4AA4-9A0F-FDE1FD92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F09AD-22E9-4B57-9BED-B657AF0A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F425A-9245-47A9-B470-6252B427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B0B05-1A0F-4F70-A11E-A189822E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C67-311A-4789-9C30-D6755DDC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240F2-B852-4D05-9082-935349C0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54709-C61C-4453-A19B-EB3EC0BE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49DD1-0DF7-4A12-9D83-D59F16AB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EF4D4-99CF-447B-BE95-191A9039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0D578-0A30-49ED-9F1C-4FBDFEEB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786B9-452F-4E3F-B36F-AA909630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E3687-2EF9-401C-8AE6-366F0724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B2E90-644E-40B7-803E-7F7A7A24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3A3EB-EE0D-4F11-98E1-61FC5F86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75CB5-6B67-453A-9DA3-A8DE9697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5827-B7C6-4805-8DFF-8EFBB808086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1F5F-0F21-44DE-899D-B1900C2B087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57A3-1E9C-4AAE-9B87-81908140948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F7B3-0FBD-435A-9B38-2B00229C1CF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8AEA-C177-4964-9B4B-58814891D20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FC8E-2089-4562-8008-0A35AD89822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8307-535C-4371-A574-982BDD92998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8E22-EC9D-473A-ABBB-C9C20E88FC0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2EDB-45B2-44FB-B605-95AE917707C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3795-401F-4EA4-AD69-177DACF4933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7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디에 가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디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시내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시내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친구를 만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own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친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만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re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 갑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서 일하십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병원이 어디에 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o ~, at ~; postposition denoting time or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0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시에 학교에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요일에도 회사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내일 미국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t ~; postposition denoting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교실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을 시장에서 샀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여자는 은행에서 일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부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usan (Pusan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병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우체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ost offi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극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a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일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다방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offee sho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청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 city hall st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은행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당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하숙집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oarding hou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사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e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도서관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백화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department st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과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institu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 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병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숙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극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을 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을 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12T14:35:59Z</dcterms:modified>
  <cp:revision>97</cp:revision>
  <dc:subject/>
  <dc:title>KOREAN LANGUAGE</dc:title>
</cp:coreProperties>
</file>